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29A-0417-4064-8A67-5AAC7931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87B-7E34-4543-86A2-0C474465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A22-971D-4A03-92CC-BCB8D977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F0B-6E5D-43E0-84DA-87E7EEDF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08D2-D663-42E1-9EE1-C25AC3BD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1A24-0D58-421B-83B7-9FD33D2F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C144-04F8-4167-AFEE-671AFE3C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025C-3E56-4939-B365-F85749C7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54CC-6388-48EB-83D0-AC8EAA07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5A62-D7FD-4C85-B5A4-9B9A3B87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0B99-9478-4096-96D0-6BD83BDB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9B9-F1E3-47CD-95DB-0A80AC46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97C1-F78A-4FDE-970C-4C76D3E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4E8E-AED3-48BE-BC74-A04E5AFA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DA93-B0F5-4B5A-B9DE-6C5D5814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542-4B14-4949-832A-B1F26A95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9572-3BFE-4144-AE6C-198E8728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2F2-FDA3-4248-A83F-4DD2728A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A73-41C6-4184-A490-901BDC57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5BA-34B3-4480-940A-8DD317EE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6E0-D468-4531-A04C-2DB51FEC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7B6-DC7C-4DC8-9AF5-91E359EE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7CC-75CC-4270-A4AE-7BADBE98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05B-3B67-4F0F-B2C2-C43D8BA3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645F-7115-4D9F-AB91-2659E047F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8CE-BC22-4714-9F08-CAE8818E8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ONSUMO CONSC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6000" y="4190760"/>
            <a:ext cx="802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briel Galiego Neto (Diretor do NTE de 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zenaide A. S. Vieira (Professora Multiplicado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LGUMAS CONSIDER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la Estadual Nair Palácio de So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urmas: 8º ano B 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ciplina: Ci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es envolvi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ª. de Ciências: Ediana Milho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es da STE: Fernando Milhoranç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Ka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es do NTE: Azenaide Vi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la Var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JUSTIFIC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ERGUNTAS NORTEAD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DAMENTAÇÃO TE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TODOLOGIA E INSTR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RON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22:37:16Z</dcterms:created>
  <dc:creator>User</dc:creator>
  <dc:description/>
  <cp:keywords/>
  <dc:language>en-US</dc:language>
  <cp:lastModifiedBy>NTE LUCIANA</cp:lastModifiedBy>
  <dcterms:modified xsi:type="dcterms:W3CDTF">2008-06-16T18:29:58Z</dcterms:modified>
  <cp:revision>3</cp:revision>
  <dc:subject/>
  <dc:title>CONSUMO CONSCIEN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46</vt:lpwstr>
  </property>
</Properties>
</file>